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B7F-C4F0-47D2-86A4-32057E43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D6B-B4AC-45EB-B8C7-04A7C05D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FAD-02CA-498E-A1CB-9046E9FA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B3D-619B-4624-AE72-140D6B52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51D-0947-4F8E-8D20-7792A671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00C-329B-4827-9AF5-D306B574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92D-D064-4038-BD35-669C6E35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309-AF05-43E4-86C9-13CE384E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37E-C9C9-401A-A618-50684A72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E40-4147-4279-A19A-653A5047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F78-A8B3-44BD-957E-15469E5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5A1-2A9A-4ACB-B7FF-15D75F9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BF0E-0EC4-41E0-A2F4-8ED7637E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omárom Város Önkormányz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ÁROP 1.A.2/A-2008-007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ÁJÉKOZTATÓ AZ ESÉLYEGYENLŐSÉGI SZEMPONTOK ÉRVÉNYESÍTÉSÉ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6093000"/>
            <a:ext cx="403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95008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285264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élcsoport és esélyegyenlőségi terü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z esélyegyenlőség célcsoport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Vele született vagy általuk nem befolyásolható tulajdonsága miatt a társadalomban hátrányba kerülő emberek és csoportj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Nem (sex – g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aji hovatartozás, bőrszín, nemzetiség, nemzeti vagy etnikai, vallási kisebbséghez tartoz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ogyaték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Szexuális irányultság, nemi ident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Életkor, családi állapot, társadalmi származás, vagyoni helyzet, világnézeti meggyőződés, politikai vagy más véle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i ter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ok a területek melyek hozzájárulhatnak az esélyegyenlőségi célcsoportok hazai helyzetének javulásáh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mek (férfiak és nők) közötti esélykülönbségek csökken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kadálymentesítés előrehal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gyatékkal élő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má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rányelvek, jog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4800" indent="-3348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urópai Unió Tanácsa 2000-ben két nagyjelentőségű irányelvet (Faji Irányelv és Foglalkoztatási Irányelv) is elfogadott a diszkrimináció visszaszorítására, melyek hazai jogrendszerbe illesztésének az Unióhoz való csatlakozásig meg kellett történnie. A törvény elfogadásával ezen kívül még hat irányelv – többségükben a nők és a férfiak egyenlő bánásmódban részesítésének követelményét tartalmazó – átültetése történt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43/EK irányelv a személyek közötti, faji vagy etnikai származásra való tekintet nélküli egyenlő bánásmód elvének végrehajtásá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78/EK  irányelv a  foglalkoztatási  és  munkahelyi  egyenlő bánásmód általános kereteinek végrehajtásáró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3. évi CXXV. Törvény az egyenlő bánásmódról és az esélyegyenlőség előmozdításáról (Ebktv.)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önkormányzatokra is kiterjesztett törvény, az 50 munkavállalónál több személyt foglalkoztató költségvetési szervekre vonatkozóan esélyegyenlőségi program kidolgozását, elfogadását írja e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agyar Köztársaság 2010. évi költségvetését megalapozó egyes törvények módosításáról szóló 2009. évi CIX. Törvény  (Tv.) kiegészítette az Ebktv-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. kötelezővé teszi a helyi önkormányzatok és többcélú kistérségi társulások számára az öt évre szóló helyi esélyegyenlőségi program elfogad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program hiányában az önkormányzat, többcélú kistérségi társulás egyes pályázati forrásokból nem részesül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leghátrányosabb helyzetű kistérségekben lévő, valamint 20.000 lakos feletti települések esetében 2010. július 1-től, egyéb települések esetében 2011. január 1-től kell alkalmazni a helyi esélyegyenlőségi progra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20/2010. (IV.16.) Kormány rendelet a helyi esélyegyenlőségi program elkészítésének szempontjairól (Hepr.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ÁROP szempontok teljesü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914120"/>
            <a:ext cx="8496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 megkülönböztetés tilalma, egyenlő bánás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Rugalmas munkaidő szervezés, vagy csúsztatható munkakezdés lehető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unkaidő- kedvezmény biztosítása a dolgozók továbbképzésé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5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mek közötti esélykülönbségek csökken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771560"/>
            <a:ext cx="84960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915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inden hátrányos megkülönböztetés sérti az emberi méltóságot, de nem minden emberi méltóságot sértő magatartás jelenti az egyenlő bánásmód sérelmét.”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Dr. Demeter J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37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kadálymentesítés előrehal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131560"/>
            <a:ext cx="8496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kommunikációs akadálymen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21140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2490480"/>
            <a:ext cx="84960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KÖSZÖNÖM MEGTISZTELŐ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GYELMÜ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6165720"/>
            <a:ext cx="403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02136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 egyenlő  bánásmód  és  az  esélyegyenlőség  fogalmát  gyakran  használják  szinonimaként,  ami  azt sugallja,  hogy  egy  és  ugyanazon  dologról  van  szó.  Az  egyenlő   bánásmód  elve(másként  a  diszkrimináció  tilalma)  és  az  esélyegyenlőségi  politika  ugyanannak  az  elvárásnak  két eltérő  filozófiájú megközelít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esélyegyenlőség érvényesítése többet, mást kíván  meg,  mint pusztán a diszkriminációmentes működés  biztosítása.  Az  esélyegyenlőség  alapja  a  diszkrimináció-mentesség.  Ezen  felül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ét  terület tudja erősíteni az esélyegyenlősége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saját szervezetén bel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z általa nyújtott szolgáltatás és más tevékenység so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A szervezeten belül azzal tudja egy szervezet érvényesíteni az esélyegyenlőséget, ha figyel arra, hogy nagyobb esélyt kapjanak ezen célcsoportok a munkavállalásra és az el menetel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zolgáltatás nyújtása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orán arra kell törekedni, hogy a célcsoportok tagj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kapjanak információt szolgáltatásairó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részesüljenek a szolgáltatásaiból és más tevékenységébő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versenyképességét,  helyzetét,  életkörülményeit  érdemben  javítsák  a  szervezetszolgáltatás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dern használatban olyan megkülönböztető bánásmód (cselekedet, tevékenység, kijelentés, elmulasztott tett, viselkedés), mely az egyén (személy) vagy a csoport esélyegyenlőségére hat. A hatása lehet negatív vagy pozitív, módszere pedig nyílt vagy burko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Nega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átrányos megkülönbözteté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vagy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egatív 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ösztönös vagy tudatos kirekesztő, megalázó cselekedet. Indítéka lehet a fölérendeltség megszerzése vagy megtartása a csoporton belül vagy csoportok között. Az egyenlő bánásmód elvével ellentétes eljárás. Általa létrejön az esélyegyenlőtlenség, a gazdasági vagy társadalmi igazságtalanság. Ürügye a személy vagy csoport másiktól eltérő tulajdonságáról (másságáról) szerzett ismer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Pozi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oportra, személyre vonatkozó jogi, adminisztratív vagy egyéb segítséget jelent, melyre a csoport vagy személy valamilyen szempontból a többséghez képest hátrányos helyzete ad okot. Indítéka a domináns egyén vagy csoport együttérzése, megértés illetve a másik fél követelése vagy tiltakozása a gazdasági és társadalmi igazságtalanság ellen. Szándéka a szolidaritás, az embercsoportok közötti gazdasági vagy társadalmi igazságtalanság enyhítése, vagyis az esélyegyenlőség megteremtésre. A pozitív diszkrimináció bizonyos esetben korlátokat állít főleg a domináns és esetleg a hátrányos helyzetben lévőnek, mégis az esélyegyenlőséget vizsgálva igazságosabb. Például ilyen egy alulképviselt csoport tagjainak segítése, részesülése az arányosság elvén (kvótáv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megkülönböztetés módsz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Nyí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kor valakit az összehasonlítható helyzetben lévő többieknél, nyíltan kedvezőbben vagy kevésbé kedvezően kezel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Burko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kkor fordul elő, amikor egy látszólag semleges előírás, ismérv vagy gyakorlat kedvezőbb vagy kedvezőtlenebb helyzetbe hoz vala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16:45Z</dcterms:created>
  <dc:creator>cmrt</dc:creator>
  <dc:description/>
  <dc:language>en-US</dc:language>
  <cp:lastModifiedBy>Gizella</cp:lastModifiedBy>
  <dcterms:modified xsi:type="dcterms:W3CDTF">2010-08-23T11:29:51Z</dcterms:modified>
  <cp:revision>35</cp:revision>
  <dc:subject/>
  <dc:title>1. dia</dc:title>
</cp:coreProperties>
</file>