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96B-CE3A-4758-9C4E-FEAA9F13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794-8EDC-4E2C-AB49-352E2ED6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760-4665-49E4-9E8B-D8447CFA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851-0C24-4CDA-8FD6-B125DF16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9627-DBAE-4DDA-BD07-54E56181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DCAE-CD3E-4F6C-BE1D-F158E17B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D0FF-0450-434E-A3A2-FC42FFEC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4792-4852-4990-8FD5-73C1863F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C209-1268-434E-9788-1C9006A6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474F-B01D-430A-BAB6-0ED3F386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62F8-23CC-4A6D-AB33-20551F2D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37A9-D938-4BF8-B66B-000A9607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1CE1-84FB-41A2-9F96-13647547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EC5B-F28B-43E8-8A14-97D62AB1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827B-59F6-4B2E-A3B9-54CCF029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5EBF-5253-46D0-9B17-E37E6C27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4287-E744-4EE6-8C91-FFFB7AFB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D633-5FB1-4A3B-A951-0CAD43FB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47C-8A46-401F-9524-D9600DFB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1BF-F946-423D-AF8D-09230B89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8B5-E27F-43DB-9C12-217E06DC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8317-EF44-4E1E-B633-762CAB69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C26-277B-4785-8FEB-0811B4EC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59A-8F3C-4821-8442-2DE0056D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656F-2781-478E-A86D-51C627055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cap="rnd"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EEB7-5115-4199-B21A-93BB09605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505764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08280"/>
            <a:ext cx="8458200" cy="16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UNKAHELYI  EGÉSZSÉGVÉDELMI ÉS BIZTONSÁGI IRÁNYÍTÁSI RENDSZ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EBIR) SZABVÁNY ISMERTE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797960" y="404640"/>
            <a:ext cx="1049040" cy="151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10880" y="549360"/>
            <a:ext cx="49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márom Város Önkormányza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OP 1.A.2/A-2008-00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26560" y="981000"/>
            <a:ext cx="8101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Gondoskodni kell az erőforrásokról a rendszer bevezetéséhez és fenntartásához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vezetőség egy tagjának kinevez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Feladatai, jogosultsága, felelőssé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rögzít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Jelentés készítési kötelezettsé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2. Képzés, tudatosság, </a:t>
            </a:r>
            <a:br>
              <a:rPr sz="4000"/>
            </a:br>
            <a:r>
              <a:rPr b="1" lang="en-US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felkészültség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Oktatás megtervezésé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Tudatosság kialakít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egfelelő felkészültsé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hozott intézkedése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3. Tanácskozás és kommunikáció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járás bevezetése a MEB információk  munkavállalók és az érdekelt felek felé történő eljuttatására, a munkavállalók bevonása a szabályozások kialakításáb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4. Dokumentáció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MEBIR elemei - politika, célok, szabályozások, feljegyzések - kölcsön-hatásainak, valamint a kapcsolódó dokumentációnak a meghatározása. </a:t>
            </a:r>
            <a:br>
              <a:rPr sz="3600"/>
            </a:b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dokumentáció tárolható bármilyen alakú</a:t>
            </a:r>
            <a:br>
              <a:rPr sz="3600"/>
            </a:b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  vagy típusú adathordoz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5. A dokumentumok és adatok</a:t>
            </a:r>
            <a:br>
              <a:rPr sz="4000"/>
            </a:br>
            <a:r>
              <a:rPr b="1" lang="en-US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kezelése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környezetközpontú  irányítási rendszer számára szükséges dokumentumokat ellenőrzés alatt kell tartan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6. A működés szabályozá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zonosítani és szabályozni kell a veszélyekkel kapcsolatos műveleteket, tevékenységeket, összhangban a politikával és a célokkal. Ezeknek ki kell terjednie a munkahelyekre, a folyamatokra, a berendezésekre, gépekre,  a karbantartásra é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unkaszervezés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08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7. Felkészülés és reagálás</a:t>
            </a:r>
            <a:br>
              <a:rPr sz="4000"/>
            </a:br>
            <a:r>
              <a:rPr b="1" lang="en-US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vészhelyzetek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járás kialakítása a lehetséges események és vészhelyzetek meghatározására, felismerésére, a reagálási tevékenységre, valamint a lehetséges egészségkárosodás és sérülés megelőzésére és enyhítésére. Értékelni kell az eseményeket, vészhelyzeteket bekövetkezésük után.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5.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LENŐRZÉS É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LYESBÍ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82087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5.1. Figyelemmel kísérés és </a:t>
            </a:r>
            <a:br>
              <a:rPr sz="4000"/>
            </a:br>
            <a:r>
              <a:rPr b="1" lang="hu-HU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mér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Eljárás kialakítása a MEB működése eredményességének figyelemmel kísérésére és mérésére, valamint a jogszabályi követelmények betartásár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szükséges mérőeszközöknek kalib-</a:t>
            </a:r>
            <a:br>
              <a:rPr sz="3600"/>
            </a:b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ráltnak kell lenniü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5.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LENŐRZÉS É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LYESBÍ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5.2. Balesetek, események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nemmegfelelőségek,</a:t>
            </a:r>
            <a:br>
              <a:rPr sz="4000"/>
            </a:br>
            <a:r>
              <a:rPr b="1" lang="hu-HU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helyesbítés és megelőz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Eljárá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79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balesetek, események kezelésér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79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z okok vizsgálatár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79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következmények enyhítésér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79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helyesbítés és megelőzés kezdemé-</a:t>
            </a:r>
            <a:br>
              <a:rPr sz="3600"/>
            </a:b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     nyezésére, arányban a MEB kockázat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13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5.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LENŐRZÉS É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LYESBÍ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1773360"/>
            <a:ext cx="83818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5.3. Feljegyzés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Feljegyzéseket kell készíteni és ezeket meg kell őrizni, hogy bizonyítékul szolgáljanak a MEBIR  megfelelőségére, eredményes működésére. A feljegyzéseknek igazolni kell a képzést,  az auditokat és az átvizsgálások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1. ÁLTALÁNOS KÖVETELM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szervezetnek létre kell hoznia, és fenn kell tartania egy környezetközpontú irányítási rendszert, az </a:t>
            </a:r>
            <a:br>
              <a:rPr sz="3600"/>
            </a:b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SZ 28001:2003 szabvány követelményeinek megfelelő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5.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LENŐRZÉS É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LYESBÍ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4963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5.4. Au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Tervezett, rendszeres és átfogó aud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756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rendszer-követelmények teljesülésének értékelésér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756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bevezetés, fenntartás ellenőrzésér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756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z eredményesség értékelésé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vezetés részére információt kell adni az</a:t>
            </a:r>
            <a:br>
              <a:rPr sz="3600"/>
            </a:b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   audit eredményérő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6. VEZETŐSÉGI ÁTVIZSGÁ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202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Rendszerértékelés a folyamatos javulás érdekében. Figyelembe veszi az auditok, az ellenőrzések, a helyesbítő, megelőző intézkedések, az érdekelt felek visszajelzéseinek tapasztalatait. Vizsgálja a politika megfelelőségét, a célok teljesülését, meghatározza a fejlesztési feladatok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z átvizsgálást dokumentálni k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ÖSZÖNÖM MEGTISZTELŐ FIGYELMÜK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2. MEB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459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lkalmassá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egfel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kötelezettsé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Közvetítés a munkavállalók fel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Hozzáférhetősé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Fejleszt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95280" y="549000"/>
            <a:ext cx="7848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Alkalmas munkahelyi és egyészség-védelmi politika megfogalmazása, rögzítése, közvetítése a munkavállalók  felé és hozzáférés biztosítása a nyilvánosság számá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A politika legyen összhangban a szervezet és az érdekelt felek igényei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artalmazza a szervezet egészére kiterjedő elkötelezettséget az egészség védelmére, a biztonságra, a jogszabályok betartásá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3. TERV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341000"/>
            <a:ext cx="874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3.1. Veszélyazonosítás, kockázat-értékelés és a kockázat kézben tartásának tervezése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járás készítés a veszélyek folyamatos felismerésére, a kockázatok értékelésé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és a szükséges kézbentartási intézkedések bevezetésé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1197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3. TERV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341000"/>
            <a:ext cx="874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3.2. Jogi és egyéb követelmény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emzés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Követ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járás a környezeti tényezőkre vonatkozó jogszabályok megismerésére, folyamatos figyelésére, a munkavállalók és az érdekelt felek tájékoztatásá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1197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3. TERV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846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3.3. Cél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Meghatározása</a:t>
            </a: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 Mér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Célok rögzítése a jogszabályi követelmé-nyek,  a veszélyek és a kockázatok, </a:t>
            </a:r>
            <a:br>
              <a:rPr sz="3600"/>
            </a:b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érdekelt felek elvárásainak figyelembe vételével, összhangban a MEB politikáv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1197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3. TERV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218960"/>
            <a:ext cx="8459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3.4. MEB irányítási program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Felelősségek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Eszközök, határid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programok készítése és rögzítése a célok és előirányzatok elérésé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1197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1. Szervezeti felépítés és felelőssé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eghatározása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Ismertet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Szabályozni kell az érintett személyek feladatait, felelősségét, az egymás közötti függőségeket, kapcsolatokat és ezt az érintettek tudomására kell hozni.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1:17:29Z</dcterms:created>
  <dc:creator>Gizus</dc:creator>
  <dc:description/>
  <dc:language>en-US</dc:language>
  <cp:lastModifiedBy>Gizella</cp:lastModifiedBy>
  <dcterms:modified xsi:type="dcterms:W3CDTF">2010-08-23T07:40:29Z</dcterms:modified>
  <cp:revision>90</cp:revision>
  <dc:subject/>
  <dc:title>A KÖZPONTI TEAM FELADATAI</dc:title>
</cp:coreProperties>
</file>