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BE9-699F-4A65-B211-8C05F20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64A-367D-44DF-8AFB-A31098A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F48-83AA-44A8-8DAD-9C8177F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4BC-2C9E-43AE-8CD1-FCA8E14E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7081-002C-4569-818D-FB98DEBE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1DB-7B2D-463C-8CE2-A3446E0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2E5-11FF-4E72-801B-D688802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9EA7-324A-4665-AD84-6D09E7D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878-89E7-4169-864E-F2030E4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AACD-29A7-41E5-9237-23544E15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CD9-37E8-47E8-9AB7-680D2A7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8BC-D26F-4308-8D19-93684D25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81BD-252C-4035-9357-FFC6296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50E4-4559-40BA-9FE1-9F70B079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3F72-C73E-45BC-9063-08BCB50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806-4F7F-4734-AED5-74D2F759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DA05-C2AD-471D-BE4B-C45C650F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2FE-14B7-4A80-B212-81DE967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146-7F10-4EAB-B038-C21C1F7A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746-F560-4476-9FAD-C8DF5BC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1CF-6930-4E80-8C05-8E00C9A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927-24FC-4836-8054-900A73E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087-6226-4C43-89F3-F0D2B67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269-6469-402E-BB15-D59E191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37D-CC72-4FF3-AA74-DC136456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A52B-0AD6-44DF-9CE4-555BF398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ZENTÁCI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F (Közös Értékelési Keretrendszer) KUTATÁS EREDMÉNYEI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 MUNKATÁRSAKKAL KAPCSOLATOS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saját elégedettségüket (vagy elégedetlenségüket) megalapozó eredményeket vizsgált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9, mely a Tervezés – Megvalósítás – Ellenőrzés – Beavatkozás rendszerében a Megvalósítás szakaszára tehető. A mért eredmények stagnálnak, és/vagy néhány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89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. TÁRSADALMI KÖRNYEZETRE GYAKOROLT HATÁSOK EREDMÉNY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t el a társadalmi környezet elvárásaival összhangban (az élet minőségére gyakorolt hatás, a környezet és az erőforrások megőrzése, a szervezet saját hatékonysága, stb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kritérium átlaga 56, mely a Tervezés – Megvalósítás – Ellenőrzés – Beavatkozás rendszerében az Ellenőrzés szakaszára tehető. A mért eredmények javuló tendenciát mutatnak, és/vagy a legtöbb kitűzött cél teljesül. A 8.2. akritérium eredmény (63 pont) kimondottan magasnak számí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113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ALAPVETŐ TELJESÍTMÉNY CÉLOKKAL KAPCSOLATOS ER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 el feladatai és célkitűzései tükrében, továbbá mennyire elégedettek a Hivatal eredményes működésében érdekelt szervek és személ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789360"/>
            <a:ext cx="370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5, mely a Tervezés – Megvalósítás – Ellenőrzés – Beavatkozás rendszerében az Ellenőrzés szakaszára tehető. A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040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400720" cy="2530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4317840"/>
            <a:ext cx="481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04036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4297320"/>
            <a:ext cx="47545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062080"/>
            <a:ext cx="49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őző kutatás – 2005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rvezetfeljesztés – teljesítményértékelés – C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önértékelés résztvevőinek ki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tatás a kutatásban résztvevők számá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2010.02.2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F kérdőív kitöl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ÉRDŐÍVEK FELDOLG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tlag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ok számtani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órá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számok eltérése az átlag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alacsony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magas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rtékelhető válaszok száma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32 kitöltő munkatárs közül azok, akik konkrét, számszerűsíthető pontszámmal értékelték az adott alkritériumot (a 0, a kitöltetlen rubrika, az intervallum megadása nem értékelhetőnek minősü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0800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eldolgozás számszerűsíthető eredménye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VEZE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vezetők miként határozzák meg, fejlesztik a közigazgatási szerv küldetését és arculatát, hogyan fejlesztik ki a hosszú távú sikerhez szükséges értékeket és biztosítják azok érvényesülésé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895640" cy="28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3573360"/>
            <a:ext cx="3706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kritérium átlaga 38, mely a Tervezés – Megvalósítás – Ellenőrzés – Beavatkozás rendszerében a Megvalósítás szakaszára tehető. Tehát a vezetés megalkotja a megfelelő intézkedésekre vonatkozó terveket, dokumentumokat, az intézkedések végrehajtásra kerülnek, de a felülvizsgálat, hogy a megfelelő intézkedésekre került-e sor – részben elma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TRATÉGIA ÉS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hajtja végre küldetését és valósítja meg jövőképét az érdekeltekre összpontosító stratégia útján, a releváns politikák, tervek, célkitűzések és célok segítség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645000"/>
            <a:ext cx="370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PDCA ciklus értékelési kritériumait tekintve a Megvalósítás szakaszra esik. A kapott eredmény azt mutatja, hogy a hivatal rendelkezik a megfelelő intézkedésekre vonatkozó tervekkel, dokumentumokkal, az intézkedés is végrehajtásra kerül, de a szükséges ellenőrzés már nem történik m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504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MBERI ERŐFORRÁS-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irányítja, fejleszti és aknázza ki a munkatársak tudását egyéni, csoport és szervezeti szinten egyaránt, valamint saját politikájának megvalósítása és a munkatársak hatékony munkavégzésének megvalósítása céljából hogyan szervezi a rendelkezésére álló erőforrá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573360"/>
            <a:ext cx="3706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Tervezés – Megvalósítás – Ellenőrzés – Beavatkozás rendszerében a Megvalósítás szakaszára tehető. A hivatal HR gazdálkodásában jellemző, hogy rendelkezik a megfelelő intézkedésekre vonatkozó tervekkel, dokumentumokkal, a szükséges intézkedések is végrehajtásra kerülnek. Az ellenőrzés folyamata viszont nem történik meg, nem vizsgálják felül, hogy vajon a megfelelő lépéseket teszi-e a hivatal az elvárt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5113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GYÜTTMŰKÖDÉS ÉS ERŐFORR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tervezi és kezeli kapcsolatait és belső erőforrásait politikája és stratégiája támogatására, valamint folyamatainak hatékony működtetése célj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9, mely a Tervezés – Megvalósítás – Ellenőrzés – Beavatkozás rendszerében a Megvalósítás szakaszára tehető. A hivatal rendelkezik a megfelelő intézkedésekre vonatkozó tervekkel, dokumentumokkal, a szükséges intézkedések végrehajtásra kerülnek, viszont az ellenőrzés folyamata hiányzi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FOLYAMAT- ÉS VÁLTOZÁS-MENEDZ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saját politikáját, stratégiáját, valamint az ügyfelek / állampolgárok elégedettségét szolgálva hogyan kezeli, szervezi és fejleszti saját folyamat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393372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3, mely a PDCA ciklusban a Megvalósítás szakaszára tehető, tehát a hivatal elkészít dokumentumokat, az döntéseket hoz, de az ellenőrzésre nem fordítanak kellő figyelmet, így a nem lehet tudni, hogy a megfelelő dolgokat teszik-e a megfelelő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5040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ÜGYFÉLKÖZPONTÚ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 Hivatal által tett intézkedések eredményességét értékelték az ügyfélvisszajelzések alapj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7, mely a PDCA ciklus rendszerében az Ellenőrzés szakaszára tehető. A válaszok alapján az eddig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10:13:41Z</dcterms:modified>
  <cp:revision>94</cp:revision>
  <dc:subject/>
  <dc:title>A KÖZPONTI TEAM FELADATAI</dc:title>
</cp:coreProperties>
</file>